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03A-312A-4524-A799-E19D7DB4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E8B-FBEB-4ADD-AE22-83D07146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F88-A5AF-4DB4-B5C2-1366E8C5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C8E-CAE5-4D98-B4C2-8EFCDC28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3AD-9944-4FBD-A06C-04239187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13E-6570-4D2A-A51D-B7A91363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D37-D094-4C80-BFB7-546070FB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541-A680-41DC-93D8-B779F2C0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2F3-8CFE-4AFF-BE13-B341DBBF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A67-AB4B-401B-B5D6-2D3BF26F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810-E0BA-4AC6-88AE-E195623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198-710F-48CC-93F8-D597DEE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7FDB-F41A-4473-A2B6-B58ECCDB70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438280"/>
            <a:ext cx="699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7160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5790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2510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1066680" y="12952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838080" y="685800"/>
            <a:ext cx="7162920" cy="42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59129" t="52668" r="26000" b="41700"/>
          <a:stretch/>
        </p:blipFill>
        <p:spPr>
          <a:xfrm>
            <a:off x="3048120" y="5105520"/>
            <a:ext cx="259056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59252" t="52668" r="26000" b="41334"/>
          <a:stretch/>
        </p:blipFill>
        <p:spPr>
          <a:xfrm>
            <a:off x="2819520" y="4572000"/>
            <a:ext cx="35049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58864" t="53556" r="24730" b="42002"/>
          <a:stretch/>
        </p:blipFill>
        <p:spPr>
          <a:xfrm>
            <a:off x="2971800" y="5105520"/>
            <a:ext cx="320040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143000" y="3809880"/>
            <a:ext cx="6858000" cy="533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29400" y="40384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6705360" cy="49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76920" y="3657600"/>
            <a:ext cx="2209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523880" y="1600200"/>
            <a:ext cx="5943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219320" y="29718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219320" y="30492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33526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51004" t="47338" r="4001" b="23335"/>
          <a:stretch/>
        </p:blipFill>
        <p:spPr>
          <a:xfrm>
            <a:off x="1295280" y="3657600"/>
            <a:ext cx="67057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495680" y="2819520"/>
            <a:ext cx="2590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971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1722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600200" y="167652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4479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65120"/>
            <a:ext cx="60958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2193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19320"/>
            <a:ext cx="63244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2193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30T19:01:19Z</dcterms:modified>
  <cp:revision>220</cp:revision>
  <dc:subject/>
  <dc:title>Slide 1</dc:title>
</cp:coreProperties>
</file>